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4638-84A7-4933-A29C-B22EF052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CB2C-96DF-420D-83F2-567FE60A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E23-54FB-478E-9E86-4EC74A0C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373-A36A-42AB-A29F-52EEED77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723D-ACA7-45D1-A3AE-B1586A53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FEED-4742-430F-8A4B-D4AF3EEE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0F48-0C67-49C9-BFD4-17A7812F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00F3-78D4-40EF-97C3-2161AF5E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7970-8442-4B20-BAEF-69C8C834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271E-077D-4ACA-A911-99AE5EA4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74E6-7CFF-47FB-AF29-4E7CDD9F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3930-5FC0-4ACA-A176-93B38F49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3990-C324-4840-A3EC-43D8319D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D866-2160-4B3C-BA0B-5940360E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B8E4-D0CA-4E76-8791-D12149AA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C090-A7A0-4040-913F-C577EED5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1B67-70F9-4EB0-ACD0-2A61D0F8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E5E4-4C5B-4B0A-95BD-7F496987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9B43-E1C2-47AA-A843-76E89EEF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BD0-7D8C-40BE-9E50-B720382F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555C-5571-4D11-B6FC-0EC6BE72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E5F6-1A7F-4EB7-9702-852324BD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A46-5FEB-4253-96FD-ACAE6BC0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2334-F32B-41BA-B44C-955B4037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BD99-328F-4974-BDFA-04127AF33FB7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396D-CF8F-4CA2-855A-E92AA24DD74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F66E-1C69-4228-A3BC-DE8798270DA3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2FC6-57CD-4D45-AAF4-82B9B3C0645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Virtual Environment Team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 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R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BF92-89CF-4E13-8006-E78EB2E2F7C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A21DB15-8359-4888-8481-D101D4665A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resource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rge LCD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y sti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design drawings from H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0249-661B-480B-A537-8AB25828DFA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88DF1-D76C-47C4-A4D1-7E212D606E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Vision…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virtual model creation process to interactively aid in the design, build, and realization phase of a hospital construction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10641" t="0" r="6388" b="0"/>
          <a:stretch/>
        </p:blipFill>
        <p:spPr>
          <a:xfrm>
            <a:off x="304920" y="3809880"/>
            <a:ext cx="3352680" cy="239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19920" y="3809880"/>
            <a:ext cx="2603520" cy="253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3809880" y="4343400"/>
            <a:ext cx="1981440" cy="1143000"/>
          </a:xfrm>
          <a:prstGeom prst="leftRightArrow">
            <a:avLst>
              <a:gd name="adj1" fmla="val 50000"/>
              <a:gd name="adj2" fmla="val 3451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84B-6467-4976-896E-03F67CC9AAD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72491-3E5E-408D-8D3A-F4C680995C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Hospital Design &amp; Build Proces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3581280"/>
            <a:ext cx="7619760" cy="5335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191120" y="3649680"/>
            <a:ext cx="533160" cy="388800"/>
            <a:chOff x="4191120" y="3649680"/>
            <a:chExt cx="533160" cy="388800"/>
          </a:xfrm>
        </p:grpSpPr>
        <p:sp>
          <p:nvSpPr>
            <p:cNvPr id="105" name=""/>
            <p:cNvSpPr/>
            <p:nvPr/>
          </p:nvSpPr>
          <p:spPr>
            <a:xfrm>
              <a:off x="4191120" y="36496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91120" y="3657600"/>
              <a:ext cx="30456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7620120" y="3649680"/>
            <a:ext cx="533160" cy="388800"/>
            <a:chOff x="7620120" y="3649680"/>
            <a:chExt cx="533160" cy="388800"/>
          </a:xfrm>
        </p:grpSpPr>
        <p:sp>
          <p:nvSpPr>
            <p:cNvPr id="108" name=""/>
            <p:cNvSpPr/>
            <p:nvPr/>
          </p:nvSpPr>
          <p:spPr>
            <a:xfrm>
              <a:off x="7620120" y="36496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0120" y="3657600"/>
              <a:ext cx="30456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048120" y="1752480"/>
            <a:ext cx="3047760" cy="1191240"/>
          </a:xfrm>
          <a:prstGeom prst="borderCallout2">
            <a:avLst>
              <a:gd name="adj1" fmla="val 18750"/>
              <a:gd name="adj2" fmla="val -8333"/>
              <a:gd name="adj3" fmla="val 9523"/>
              <a:gd name="adj4" fmla="val -44375"/>
              <a:gd name="adj5" fmla="val 156736"/>
              <a:gd name="adj6" fmla="val -63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ign Ph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nnect between designers and end-users (care-give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4495680"/>
            <a:ext cx="3179880" cy="1465560"/>
          </a:xfrm>
          <a:prstGeom prst="borderCallout2">
            <a:avLst>
              <a:gd name="adj1" fmla="val 18750"/>
              <a:gd name="adj2" fmla="val -8333"/>
              <a:gd name="adj3" fmla="val 6532"/>
              <a:gd name="adj4" fmla="val 115078"/>
              <a:gd name="adj5" fmla="val -26912"/>
              <a:gd name="adj6" fmla="val 1281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ild Ph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to no way-finding training provided before move-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process plan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4876920"/>
            <a:ext cx="3505320" cy="1739880"/>
          </a:xfrm>
          <a:prstGeom prst="borderCallout2">
            <a:avLst>
              <a:gd name="adj1" fmla="val 18750"/>
              <a:gd name="adj2" fmla="val -8333"/>
              <a:gd name="adj3" fmla="val 6532"/>
              <a:gd name="adj4" fmla="val 104300"/>
              <a:gd name="adj5" fmla="val -49625"/>
              <a:gd name="adj6" fmla="val 106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ccupancy Ph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patient interaction outside of hosp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to no way-finding training provided before vis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90720" y="3657600"/>
            <a:ext cx="533160" cy="380880"/>
            <a:chOff x="990720" y="3657600"/>
            <a:chExt cx="533160" cy="380880"/>
          </a:xfrm>
        </p:grpSpPr>
        <p:sp>
          <p:nvSpPr>
            <p:cNvPr id="114" name=""/>
            <p:cNvSpPr/>
            <p:nvPr/>
          </p:nvSpPr>
          <p:spPr>
            <a:xfrm>
              <a:off x="990720" y="365760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0720" y="3657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191120" y="3657600"/>
            <a:ext cx="533160" cy="380880"/>
            <a:chOff x="4191120" y="3657600"/>
            <a:chExt cx="533160" cy="380880"/>
          </a:xfrm>
        </p:grpSpPr>
        <p:sp>
          <p:nvSpPr>
            <p:cNvPr id="117" name=""/>
            <p:cNvSpPr/>
            <p:nvPr/>
          </p:nvSpPr>
          <p:spPr>
            <a:xfrm>
              <a:off x="4191120" y="365760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91120" y="3657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620120" y="3657600"/>
            <a:ext cx="533160" cy="380880"/>
            <a:chOff x="7620120" y="3657600"/>
            <a:chExt cx="533160" cy="380880"/>
          </a:xfrm>
        </p:grpSpPr>
        <p:sp>
          <p:nvSpPr>
            <p:cNvPr id="120" name=""/>
            <p:cNvSpPr/>
            <p:nvPr/>
          </p:nvSpPr>
          <p:spPr>
            <a:xfrm>
              <a:off x="7620120" y="365760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0120" y="3657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AEDA-3875-4345-9423-91A25F5E68A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4D06F-B270-44CA-90A9-44C2FCBE45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66633"/>
                </a:solidFill>
                <a:latin typeface="Arial"/>
              </a:rPr>
              <a:t>Vision throughout design &amp; build process…</a:t>
            </a:r>
            <a:endParaRPr b="0" lang="en-US" sz="25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6019920"/>
            <a:ext cx="6248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914400" y="22860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6064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pital Design &amp; Build Process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600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odel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066680" y="2057040"/>
            <a:ext cx="4724640" cy="3962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371600" y="5486400"/>
            <a:ext cx="533160" cy="380880"/>
            <a:chOff x="1371600" y="5486400"/>
            <a:chExt cx="533160" cy="380880"/>
          </a:xfrm>
        </p:grpSpPr>
        <p:sp>
          <p:nvSpPr>
            <p:cNvPr id="129" name=""/>
            <p:cNvSpPr/>
            <p:nvPr/>
          </p:nvSpPr>
          <p:spPr>
            <a:xfrm>
              <a:off x="1371600" y="548640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71600" y="54864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819520" y="4267080"/>
            <a:ext cx="533160" cy="380880"/>
            <a:chOff x="2819520" y="4267080"/>
            <a:chExt cx="533160" cy="380880"/>
          </a:xfrm>
        </p:grpSpPr>
        <p:sp>
          <p:nvSpPr>
            <p:cNvPr id="132" name=""/>
            <p:cNvSpPr/>
            <p:nvPr/>
          </p:nvSpPr>
          <p:spPr>
            <a:xfrm>
              <a:off x="2819520" y="426708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19520" y="42670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724280" y="2666880"/>
            <a:ext cx="533160" cy="380880"/>
            <a:chOff x="4724280" y="2666880"/>
            <a:chExt cx="533160" cy="380880"/>
          </a:xfrm>
        </p:grpSpPr>
        <p:sp>
          <p:nvSpPr>
            <p:cNvPr id="135" name=""/>
            <p:cNvSpPr/>
            <p:nvPr/>
          </p:nvSpPr>
          <p:spPr>
            <a:xfrm>
              <a:off x="4724280" y="266688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24280" y="26668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676520" y="54864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in optimizing design before it’s bui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4267080"/>
            <a:ext cx="358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ize way-finding trans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ize Process Effici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590920"/>
            <a:ext cx="4114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 interaction between patients, nurs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ly educate on way-f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ert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E6A9-D5F3-4678-8B44-00780EDEEEC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C0F99-1149-4FDF-8F1C-476CCFA6DE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.Design Phas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o increase effectiveness with designing better workplaces by integrating verbal and behavioral feedbacks from nur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8.9% of nursing staff time was spent walking (Burgio et al. 19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impact of unit layout on the amount of time spent walking (Shepley 2002; Shepley and Davies 2003; Sturdavant 1960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762F-1AA1-4748-92CC-B526AD2CF8E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EDC28-AABD-45A5-902F-9232238131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. Design phas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9640" y="4797360"/>
            <a:ext cx="2376720" cy="1362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58920" y="3645000"/>
            <a:ext cx="136692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3708360" y="3668760"/>
          <a:ext cx="4319640" cy="288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3668760"/>
                    <a:ext cx="4319640" cy="28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57200" y="1600200"/>
            <a:ext cx="77868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rses are randomly assigned to different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asked to explore the unit and perform several medical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stances and time used, and their verbal feedbacks are coll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16360" y="4581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16360" y="5661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47B7-6E03-47EA-93B6-C7A84D07530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A1752-E9BC-49E7-8657-3E9C6F367F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. Build Phas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e way-finding tran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process efficiencies and reduce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eople with virtual environment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raining outperform people without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666633"/>
                </a:solidFill>
                <a:latin typeface="Arial"/>
              </a:rPr>
              <a:t>times to perform route task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666633"/>
                </a:solidFill>
                <a:latin typeface="Arial"/>
              </a:rPr>
              <a:t>left-right directional judg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Hunt, M. E. (1984), Foreman, N., et al, (2005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84EA-743A-4956-9065-014C7EA6ABE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FFAFF-C6B2-482E-B1B0-5E5273DCE2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. Build Phas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rses will be trained to perform medical tasks with the optimized routes before they move into new buildin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nurses may have different tasks/ desti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12810" t="0" r="31672" b="23955"/>
          <a:stretch/>
        </p:blipFill>
        <p:spPr>
          <a:xfrm>
            <a:off x="3780000" y="3429000"/>
            <a:ext cx="4267080" cy="2735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00000" y="3860640"/>
            <a:ext cx="259236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rse in ICU will be trained to locate key location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ain peopl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16360" y="4221000"/>
            <a:ext cx="360360" cy="21600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51640" y="4724280"/>
            <a:ext cx="360360" cy="21600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5229360"/>
            <a:ext cx="360360" cy="21564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5229360"/>
            <a:ext cx="360360" cy="21564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5300640"/>
            <a:ext cx="287280" cy="28908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41F2-70D2-4277-A526-F45B37DC0BA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31515-9DF9-45B5-86C6-7E46AD7B72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666633"/>
                </a:solidFill>
                <a:latin typeface="Arial"/>
              </a:rPr>
              <a:t>3.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ccupancy Phas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ovide transparency of the environment to patients and visi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can use the virtual environment to know how to find key locations in the hospital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835280" y="3887640"/>
            <a:ext cx="6337080" cy="2970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227640" y="5661000"/>
            <a:ext cx="1224000" cy="72072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3860640"/>
            <a:ext cx="2160720" cy="120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ion: 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: 20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right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8C9-1249-4912-89CD-1FD2C34698E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B34E9-65E7-41A3-AB99-391C15B1A0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22:05:40Z</dcterms:created>
  <dc:creator>Lu, Yi</dc:creator>
  <dc:description/>
  <dc:language>en-US</dc:language>
  <cp:lastModifiedBy>Lu, Yi</cp:lastModifiedBy>
  <dcterms:modified xsi:type="dcterms:W3CDTF">2007-10-25T19:24:37Z</dcterms:modified>
  <cp:revision>5</cp:revision>
  <dc:subject/>
  <dc:title>Virtual Environment Team</dc:title>
</cp:coreProperties>
</file>